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06C-469A-486E-A251-F3885253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AA4-01AD-4A0D-8181-D59EEF4F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066-8D44-4DDC-8425-794385F3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4A3-D457-4DDF-977E-36251342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54C-E833-4154-B169-059B1B3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00C-1FB4-4DEC-98DA-53EADF67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44B-A50A-4E80-941D-C4C08503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434-2E1E-471D-B96F-B08BB938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8A1-8EC7-4C7B-BA7E-EF19B366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214-5826-452D-AD42-8ECB6E42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618-9B12-46C1-802F-0C739F1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925-76FC-460E-8BCB-54F67466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02A4-05D1-404C-95FF-A7ED07B56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fr-FR" sz="4800" spc="-1" strike="noStrike">
                <a:solidFill>
                  <a:srgbClr val="000000"/>
                </a:solidFill>
                <a:latin typeface="Helvetica Neue 75 Bold"/>
              </a:rPr>
              <a:t>Outil d’information et de recueil d’information du CSST d’Orange Côte d’Ivoire</a:t>
            </a:r>
            <a:br>
              <a:rPr sz="5400"/>
            </a:br>
            <a:br>
              <a:rPr sz="5400"/>
            </a:br>
            <a:r>
              <a:rPr b="0" lang="fr-FR" sz="3200" spc="-1" strike="noStrike">
                <a:solidFill>
                  <a:srgbClr val="000000"/>
                </a:solidFill>
                <a:latin typeface="Helvetica Neue 75 Bold"/>
              </a:rPr>
              <a:t>présenté par: Rolande VLAMI</a:t>
            </a:r>
            <a:br>
              <a:rPr sz="3600"/>
            </a:br>
            <a:r>
              <a:rPr b="0" lang="fr-FR" sz="2800" spc="-1" strike="noStrike">
                <a:solidFill>
                  <a:srgbClr val="000000"/>
                </a:solidFill>
                <a:latin typeface="Helvetica Neue 75 Bold"/>
              </a:rPr>
              <a:t>Secrétaire du CSST</a:t>
            </a:r>
            <a:br>
              <a:rPr sz="5400"/>
            </a:b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C:\Users\rvlami\AppData\Local\Microsoft\Windows\Temporary Internet Files\Content.Outlook\2YYTW40F\logo csst (2).jpg"/>
          <p:cNvPicPr/>
          <p:nvPr/>
        </p:nvPicPr>
        <p:blipFill>
          <a:blip r:embed="rId1"/>
          <a:stretch/>
        </p:blipFill>
        <p:spPr>
          <a:xfrm>
            <a:off x="2819520" y="228600"/>
            <a:ext cx="2408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0" b="5359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0" t="0" r="0" b="5384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0" t="0" r="0" b="5207"/>
          <a:stretch/>
        </p:blipFill>
        <p:spPr>
          <a:xfrm>
            <a:off x="0" y="60948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0" r="0" b="5207"/>
          <a:stretch/>
        </p:blipFill>
        <p:spPr>
          <a:xfrm>
            <a:off x="9360" y="685800"/>
            <a:ext cx="9134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0" r="0" b="5295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rcRect l="0" t="0" r="0" b="5507"/>
          <a:stretch/>
        </p:blipFill>
        <p:spPr>
          <a:xfrm>
            <a:off x="533520" y="685800"/>
            <a:ext cx="8049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Helvetica Neue 75 Bold"/>
              </a:rPr>
              <a:t>Un exemple de remonté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21447" r="0" b="5084"/>
          <a:stretch/>
        </p:blipFill>
        <p:spPr>
          <a:xfrm>
            <a:off x="0" y="8380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2362320" y="3165480"/>
            <a:ext cx="45720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362320" y="3498840"/>
            <a:ext cx="45720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411280" y="2708280"/>
            <a:ext cx="2119320" cy="11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362320" y="4745160"/>
            <a:ext cx="457200" cy="75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2368440" y="5548320"/>
            <a:ext cx="106056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Helvetica Neue 75 Bold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Helvetica Neue 75 Bold"/>
              </a:rPr>
              <a:t>Créer un registre d’ale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Helvetica Neue 75 Bold"/>
              </a:rPr>
              <a:t>Promouvoir le CS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360" y="3733560"/>
            <a:ext cx="884736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0" i="1" lang="fr-FR" sz="4900" spc="-1" strike="noStrike">
                <a:solidFill>
                  <a:srgbClr val="000000"/>
                </a:solidFill>
                <a:latin typeface="Helvetica Neue 75 Bold"/>
              </a:rPr>
              <a:t>votre bien-être, notre priorité</a:t>
            </a:r>
            <a:br>
              <a:rPr sz="7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298600" y="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4436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3962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rvlami\AppData\Local\Microsoft\Windows\Temporary Internet Files\Content.Outlook\2YYTW40F\logo csst (2).jpg"/>
          <p:cNvPicPr/>
          <p:nvPr/>
        </p:nvPicPr>
        <p:blipFill>
          <a:blip r:embed="rId2"/>
          <a:stretch/>
        </p:blipFill>
        <p:spPr>
          <a:xfrm>
            <a:off x="5770440" y="5486400"/>
            <a:ext cx="2408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7653" r="0" b="5000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0" t="3159" r="0" b="6117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rcRect l="0" t="8022" r="0" b="5025"/>
          <a:stretch/>
        </p:blipFill>
        <p:spPr>
          <a:xfrm>
            <a:off x="0" y="83808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0" r="0" b="5236"/>
          <a:stretch/>
        </p:blipFill>
        <p:spPr>
          <a:xfrm>
            <a:off x="0" y="6094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0" r="0" b="6324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0" b="5507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10:25:55Z</dcterms:created>
  <dc:creator>VLAMI Rolande /DCOM [OCI]</dc:creator>
  <dc:description/>
  <dc:language>en-US</dc:language>
  <cp:lastModifiedBy>Ettien Francis BONI</cp:lastModifiedBy>
  <dcterms:modified xsi:type="dcterms:W3CDTF">2017-08-10T10:18:21Z</dcterms:modified>
  <cp:revision>29</cp:revision>
  <dc:subject/>
  <dc:title>Présentation PowerPoint</dc:title>
</cp:coreProperties>
</file>