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3F34-43EA-4AE9-9541-9490D335C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3359-75A9-4BC1-89BF-241BC015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4FE7-40A7-40FD-AB97-48A350C66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1D3F-5F02-4CFD-8A64-20B168C9E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26C8-B927-48D6-A65F-D30696D1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321A-89EF-46B1-9242-43085B19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54E9-95B8-4404-8E1E-8DC8057E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5B97-B226-4C3B-A861-65CFDADF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2268-4BF3-41C5-8521-B8A113DA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C1ED-AB50-45BB-96EE-285E54E0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0FDB-2F27-44B7-9B7E-69FCC682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2484-D759-463B-BEDB-B0BCAB84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57E4-D774-41C7-A8C0-5E997A6CDA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0" lang="fr-FR" sz="4800" spc="-1" strike="noStrike">
                <a:solidFill>
                  <a:srgbClr val="000000"/>
                </a:solidFill>
                <a:latin typeface="Helvetica Neue 75 Bold"/>
              </a:rPr>
              <a:t>Outil d’information et de recueil d’information du CSST d’Orange Côte d’Ivoire</a:t>
            </a:r>
            <a:br>
              <a:rPr sz="5400"/>
            </a:br>
            <a:br>
              <a:rPr sz="5400"/>
            </a:br>
            <a:r>
              <a:rPr b="0" lang="fr-FR" sz="3200" spc="-1" strike="noStrike">
                <a:solidFill>
                  <a:srgbClr val="000000"/>
                </a:solidFill>
                <a:latin typeface="Helvetica Neue 75 Bold"/>
              </a:rPr>
              <a:t>présenté par: Rolande VLAMI</a:t>
            </a:r>
            <a:br>
              <a:rPr sz="3600"/>
            </a:br>
            <a:r>
              <a:rPr b="0" lang="fr-FR" sz="2800" spc="-1" strike="noStrike">
                <a:solidFill>
                  <a:srgbClr val="000000"/>
                </a:solidFill>
                <a:latin typeface="Helvetica Neue 75 Bold"/>
              </a:rPr>
              <a:t>Secrétaire du CSST</a:t>
            </a:r>
            <a:br>
              <a:rPr sz="5400"/>
            </a:br>
            <a:br>
              <a:rPr sz="5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C:\Users\rvlami\AppData\Local\Microsoft\Windows\Temporary Internet Files\Content.Outlook\2YYTW40F\logo csst (2).jpg"/>
          <p:cNvPicPr/>
          <p:nvPr/>
        </p:nvPicPr>
        <p:blipFill>
          <a:blip r:embed="rId1"/>
          <a:stretch/>
        </p:blipFill>
        <p:spPr>
          <a:xfrm>
            <a:off x="2819520" y="228600"/>
            <a:ext cx="24080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rcRect l="0" t="0" r="0" b="5359"/>
          <a:stretch/>
        </p:blipFill>
        <p:spPr>
          <a:xfrm>
            <a:off x="0" y="7621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0" t="0" r="0" b="5384"/>
          <a:stretch/>
        </p:blipFill>
        <p:spPr>
          <a:xfrm>
            <a:off x="0" y="762120"/>
            <a:ext cx="9144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rcRect l="0" t="0" r="0" b="5207"/>
          <a:stretch/>
        </p:blipFill>
        <p:spPr>
          <a:xfrm>
            <a:off x="0" y="60948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rcRect l="0" t="0" r="0" b="5207"/>
          <a:stretch/>
        </p:blipFill>
        <p:spPr>
          <a:xfrm>
            <a:off x="9360" y="685800"/>
            <a:ext cx="91346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rcRect l="0" t="0" r="0" b="5295"/>
          <a:stretch/>
        </p:blipFill>
        <p:spPr>
          <a:xfrm>
            <a:off x="0" y="76212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rcRect l="0" t="0" r="0" b="5507"/>
          <a:stretch/>
        </p:blipFill>
        <p:spPr>
          <a:xfrm>
            <a:off x="533520" y="685800"/>
            <a:ext cx="8049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Helvetica Neue 75 Bold"/>
              </a:rPr>
              <a:t>Un exemple de remonté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rcRect l="0" t="21447" r="0" b="5084"/>
          <a:stretch/>
        </p:blipFill>
        <p:spPr>
          <a:xfrm>
            <a:off x="0" y="8380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2362320" y="3165480"/>
            <a:ext cx="457200" cy="763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2362320" y="3498840"/>
            <a:ext cx="457200" cy="763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2411280" y="2708280"/>
            <a:ext cx="2119320" cy="111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2362320" y="4745160"/>
            <a:ext cx="457200" cy="759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2368440" y="5548320"/>
            <a:ext cx="1060560" cy="763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6868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6868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Helvetica Neue 75 Bold"/>
              </a:rPr>
              <a:t>Objectif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Helvetica Neue 75 Bold"/>
              </a:rPr>
              <a:t>Créer un registre d’aler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Helvetica Neue 75 Bold"/>
              </a:rPr>
              <a:t>Promouvoir le CS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360" y="3733560"/>
            <a:ext cx="884736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r>
              <a:rPr b="0" i="1" lang="fr-FR" sz="4900" spc="-1" strike="noStrike">
                <a:solidFill>
                  <a:srgbClr val="000000"/>
                </a:solidFill>
                <a:latin typeface="Helvetica Neue 75 Bold"/>
              </a:rPr>
              <a:t>votre bien-être, notre priorité</a:t>
            </a:r>
            <a:br>
              <a:rPr sz="7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2298600" y="0"/>
            <a:ext cx="21430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AutoShape 12"/>
          <p:cNvSpPr/>
          <p:nvPr/>
        </p:nvSpPr>
        <p:spPr>
          <a:xfrm>
            <a:off x="144360" y="-1028880"/>
            <a:ext cx="214308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1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3962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C:\Users\rvlami\AppData\Local\Microsoft\Windows\Temporary Internet Files\Content.Outlook\2YYTW40F\logo csst (2).jpg"/>
          <p:cNvPicPr/>
          <p:nvPr/>
        </p:nvPicPr>
        <p:blipFill>
          <a:blip r:embed="rId2"/>
          <a:stretch/>
        </p:blipFill>
        <p:spPr>
          <a:xfrm>
            <a:off x="5770440" y="5486400"/>
            <a:ext cx="2408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rcRect l="0" t="7653" r="0" b="5000"/>
          <a:stretch/>
        </p:blipFill>
        <p:spPr>
          <a:xfrm>
            <a:off x="0" y="6094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rcRect l="0" t="3159" r="0" b="6117"/>
          <a:stretch/>
        </p:blipFill>
        <p:spPr>
          <a:xfrm>
            <a:off x="0" y="6094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rcRect l="0" t="8022" r="0" b="5025"/>
          <a:stretch/>
        </p:blipFill>
        <p:spPr>
          <a:xfrm>
            <a:off x="0" y="83808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0" t="0" r="0" b="5236"/>
          <a:stretch/>
        </p:blipFill>
        <p:spPr>
          <a:xfrm>
            <a:off x="0" y="60948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0" t="0" r="0" b="6324"/>
          <a:stretch/>
        </p:blipFill>
        <p:spPr>
          <a:xfrm>
            <a:off x="0" y="53352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0" t="0" r="0" b="5507"/>
          <a:stretch/>
        </p:blipFill>
        <p:spPr>
          <a:xfrm>
            <a:off x="0" y="6094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3T10:25:55Z</dcterms:created>
  <dc:creator>VLAMI Rolande /DCOM [OCI]</dc:creator>
  <dc:description/>
  <dc:language>en-US</dc:language>
  <cp:lastModifiedBy>Ettien Francis BONI</cp:lastModifiedBy>
  <dcterms:modified xsi:type="dcterms:W3CDTF">2017-08-10T10:18:21Z</dcterms:modified>
  <cp:revision>29</cp:revision>
  <dc:subject/>
  <dc:title>Présentation PowerPoint</dc:title>
</cp:coreProperties>
</file>